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383-B8D4-4ADC-AED1-F13A0EE5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273-2300-4CCC-84D7-3BBD3ABE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847-8B40-493E-B1DE-8EF01678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559-AD3E-49E8-9652-39DCAE9B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475-769F-4B0D-A196-B752CCE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D2B-AF3B-4D3D-A628-3A78D39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6BE-C362-4A4F-A1CC-B1C2AD3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0A2-3FE3-45F5-B96B-E2018BA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D5F-C826-4134-BDEC-07443CE5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50C-2244-4BCF-9EAE-4869F80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60D-8A39-41C8-9F1D-6DFBFC4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ACF-EFEB-4777-A991-48A7E36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215A-4541-430A-91AC-A1DE82F6A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1 bya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Your Ticket to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relate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c Responsibility: ready to be a productive citiz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ior “Stuff” (stadium picture, Grad Night, class meet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ally, helping you make the transition from CDO to your fu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3:06:43Z</dcterms:created>
  <dc:creator>admin</dc:creator>
  <dc:description/>
  <dc:language>en-US</dc:language>
  <cp:lastModifiedBy>Leif Erickson</cp:lastModifiedBy>
  <dcterms:modified xsi:type="dcterms:W3CDTF">2011-06-09T04:23:37Z</dcterms:modified>
  <cp:revision>6</cp:revision>
  <dc:subject/>
  <dc:title>Senior Class Advisory</dc:title>
</cp:coreProperties>
</file>